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1BA-E2E8-4503-B3B5-95751F8D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AD0-69BE-4F30-AED1-574F904B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B69-377D-4F1B-8F9F-EBE60437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990-9677-49D3-A433-4BA5CA32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9CE0-12FF-4D38-A148-EF4B026A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7CEC-F5C2-4684-AC4F-6BD02CD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467F-5805-442F-A023-C5AEE8E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180A-2984-432F-AA3F-BD990D0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A763-54DD-4B98-88C6-1809B639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C787-A627-417C-A19C-F61BC16C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4D30-37B7-4D84-9B39-74D9FC12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576-1111-417E-BD01-58F9705A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A202-6689-4A69-B188-D438F7AF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C81F-DBE0-4E0D-803E-B0F4786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B7D2-208B-4847-AE39-25EAF6F6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0F27-C1E9-4077-B145-C18539E7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D75F-17E7-4325-B855-6ECEEEAB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CE4-753F-4990-A420-D4556FCB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8A4-B16D-47EC-995B-563D6F44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A93-A3DC-48C6-B4ED-1CD0EF4F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6D4-4060-447D-B618-AF0D0B6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CB3-638E-4003-B1C3-7D7762A8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C16-D96C-4FDE-90A3-BA5292D5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DBF-5752-4BD4-8C82-2C22FB0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875C-D0FC-46A5-A4E7-DCEA17CC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9FA5-81C8-4701-BC29-5E9F3E49D39C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7.03 Functioning Home Office 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Telecommuter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ople who work from their homes using computers, modems, fax machines, teleconferencing equipmen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Modem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chnological advancement that allow several people within a home to us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uters to send and receive information within seconds and mo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Wireless technology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method of sending signals over the airwaves rather than through wires or cables.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ows computers/laptops to be used in any room of the house or outside the home (in businesses/restaurants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-Fi: uses a narrow range of low frequency, low energy radio wave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Surge protector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tects equipment from damage due to power surges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lters out sudden increases in power created by the local power company or a storm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r best protection use a 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central uni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that protects the whole home at once. Has its own circuit breaker and should be placed close to the panel box. Can be placed in new or older homes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Ergonomic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 applied science concerned with designing and arranging things so they are safe, comfortable, and efficient for people to use.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s is an environment that facilitates frequent changes in body positions and avoids eye-straining glare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Guidelines for planning home offic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rrange the work area into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L or U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hape. Place a swivel chair in the middle so that turning or rolling slightly, everything is in reach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en seated, the computer, telephone, and file storage should be within easy reac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lan for plenty of work surface. A desk should be 24” deep and 36” wid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vertical space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(tall bookcases), rolling filing cabinets, corner bookcas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la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for enough storage and extra storage for 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utur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storage wisely by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toring similar items together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 Put frequently used items close for handines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ocation of home office depends on the type of work there and the availability of space. Home offices range from a corner of the family room to a whole room. Make sure there is adequate work area and filing area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eparate entrance is optimal but any room can be used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ffice should b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ocated AWAY from the main part of the house. </a:t>
            </a:r>
            <a:r>
              <a:rPr b="0" lang="en-US" sz="2400" spc="-1" strike="noStrike">
                <a:solidFill>
                  <a:srgbClr val="1bb2ff"/>
                </a:solidFill>
                <a:latin typeface="Verdana"/>
              </a:rPr>
              <a:t>Be mindful of the zones in the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m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heck local business zoning laws to see if business can be conducted in the home if clients will be visiting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3:14:32Z</dcterms:created>
  <dc:creator>s.brooks</dc:creator>
  <dc:description/>
  <dc:language>en-US</dc:language>
  <cp:lastModifiedBy>s.brooks</cp:lastModifiedBy>
  <dcterms:modified xsi:type="dcterms:W3CDTF">2011-05-05T14:15:11Z</dcterms:modified>
  <cp:revision>3</cp:revision>
  <dc:subject/>
  <dc:title>7.03 Functioning Home Office </dc:title>
</cp:coreProperties>
</file>